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763-2087-45DC-BB57-2FE6FBB2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D2D3-A783-4CAA-85B4-78DCFD75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F0C-9408-4B52-A320-1AFFAB22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96D2-35B5-400D-92B5-3B26F6A3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4BC2-6FBF-4AD9-859F-207C1D03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2377-F1C7-43F0-8D84-8BA8C0EE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C690-012D-40C4-ACF4-6ABA3E0B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97A-2919-4724-AD13-3047495D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2AB2-8F04-430B-9007-4665BBF4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7AA2-2FF5-477E-94F5-EE0F5D60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2700-5499-458E-A019-338A29C5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6B89-3360-4305-8762-AA102A44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th-TH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0A1E791-64C7-49C2-A9ED-18A516300F27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8578800"/>
            <a:ext cx="1219320" cy="1157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219320" y="3276720"/>
            <a:ext cx="4352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ngsanaUPC"/>
              </a:rPr>
              <a:t>ประจำปีงบประมาณ พ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ngsanaUPC"/>
              </a:rPr>
              <a:t>.</a:t>
            </a: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ngsanaUPC"/>
              </a:rPr>
              <a:t>ศ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ngsanaUPC"/>
              </a:rPr>
              <a:t>.2551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latin typeface="AngsanaUPC"/>
              <a:ea typeface="AngsanaUPC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243828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ngsanaUPC"/>
              </a:rPr>
              <a:t>คำรับรองการปฏิบัติราชการ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latin typeface="AngsanaUPC"/>
              <a:ea typeface="AngsanaUPC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52680" y="8972640"/>
            <a:ext cx="502920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UPC"/>
              </a:rPr>
              <a:t>สำนักงานคณะกรรมการพัฒนาการเศรษฐกิจและสังคมแห่งชาติ</a:t>
            </a:r>
            <a:endParaRPr b="1" lang="en-US" sz="28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5000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UPC"/>
              <a:ea typeface="AngsanaUPC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633760" y="533520"/>
            <a:ext cx="1589040" cy="1541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120680" y="4572000"/>
            <a:ext cx="461664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52480" y="8420040"/>
            <a:ext cx="44197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th-TH" sz="2300" spc="-1" strike="noStrike">
                <a:solidFill>
                  <a:srgbClr val="000000"/>
                </a:solidFill>
                <a:latin typeface="Baskerville Old Face"/>
              </a:rPr>
              <a:t>962 </a:t>
            </a:r>
            <a:r>
              <a:rPr b="1" lang="th-TH" sz="2300" spc="-1" strike="noStrike">
                <a:solidFill>
                  <a:srgbClr val="000000"/>
                </a:solidFill>
                <a:latin typeface="Baskerville Old Face"/>
              </a:rPr>
              <a:t>ถนนกรุงเกษม แขวงวัดโสมนัส                      เขตป้อมปราบศัตรูพ่าย กรุงเทพฯ </a:t>
            </a:r>
            <a:r>
              <a:rPr b="1" lang="th-TH" sz="2300" spc="-1" strike="noStrike">
                <a:solidFill>
                  <a:srgbClr val="000000"/>
                </a:solidFill>
                <a:latin typeface="Baskerville Old Face"/>
              </a:rPr>
              <a:t>10100 </a:t>
            </a:r>
            <a:r>
              <a:rPr b="1" lang="en-US" sz="2300" spc="-1" strike="noStrike">
                <a:solidFill>
                  <a:srgbClr val="000000"/>
                </a:solidFill>
                <a:latin typeface="Baskerville Old Face"/>
              </a:rPr>
              <a:t>http://www.nesdb.go.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0880" y="7467480"/>
            <a:ext cx="4953240" cy="162000"/>
            <a:chOff x="380880" y="7467480"/>
            <a:chExt cx="4953240" cy="162000"/>
          </a:xfrm>
        </p:grpSpPr>
        <p:sp>
          <p:nvSpPr>
            <p:cNvPr id="50" name=""/>
            <p:cNvSpPr/>
            <p:nvPr/>
          </p:nvSpPr>
          <p:spPr>
            <a:xfrm>
              <a:off x="380880" y="7629480"/>
              <a:ext cx="434340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0720" y="7467480"/>
              <a:ext cx="434340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 txBox="1"/>
          <p:nvPr/>
        </p:nvSpPr>
        <p:spPr>
          <a:xfrm>
            <a:off x="1924200" y="7924680"/>
            <a:ext cx="4572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UPC"/>
              </a:rPr>
              <a:t>สำนักงานคณะกรรมการพัฒนาการเศรษฐกิจและสังคมแห่งชาติ</a:t>
            </a:r>
            <a:endParaRPr b="1" lang="en-US" sz="28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5000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UPC"/>
              <a:ea typeface="AngsanaUP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84280" y="853920"/>
            <a:ext cx="21114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4T14:04:20Z</dcterms:created>
  <dc:creator>win</dc:creator>
  <dc:description/>
  <dc:language>en-US</dc:language>
  <cp:lastModifiedBy>chura</cp:lastModifiedBy>
  <dcterms:modified xsi:type="dcterms:W3CDTF">2008-04-25T06:27:03Z</dcterms:modified>
  <cp:revision>65</cp:revision>
  <dc:subject/>
  <dc:title>Slide 1</dc:title>
</cp:coreProperties>
</file>